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0D82-F307-443B-9D2B-4AD6F3F42249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21BE-5198-4BA4-A007-7505ADF0869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bc.net.au/science/articles/2010/10/13/3037285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5564-C033-436F-AC40-898BB55D71D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libri"/>
              </a:rPr>
              <a:t>Increasing the substrate concentration increases the reaction rate to a certain point.  Once the enzymes are saturated with substrate, the concentration of enzyme becomes the limiting facto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libri"/>
              </a:rPr>
              <a:t>Protein (enzyme) folding depends on interactions between amino acid side (R) groups, some that are acidic or basic.  Each protein (enzyme) has an optimal pH at which they fold correctl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alibri"/>
              </a:rPr>
              <a:t>Temperature</a:t>
            </a:r>
            <a:r>
              <a:rPr b="0" lang="en-CA" sz="1300" spc="-1" strike="noStrike">
                <a:solidFill>
                  <a:srgbClr val="000000"/>
                </a:solidFill>
                <a:latin typeface="Calibri"/>
              </a:rPr>
              <a:t> – At high temperatures, enzymes become denatured and don’t function.  At low temperatures, enzymes are too rigid to catalyse a reaction.  Enzymes usually function best at body temperature (37</a:t>
            </a:r>
            <a:r>
              <a:rPr b="0" lang="en-CA" sz="13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CA" sz="1300" spc="-1" strike="noStrike">
                <a:solidFill>
                  <a:srgbClr val="000000"/>
                </a:solidFill>
                <a:latin typeface="Calibri"/>
              </a:rPr>
              <a:t>C in humans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D4C7-DB84-4B6D-B302-E030338728D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bbc.co.uk/schools/gcsebitesize/science/add_aqa/proteins/proteinsrev3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C3D3-F974-4790-9585-30354E786734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bbc.co.uk/schools/gcsebitesize/science/add_aqa/proteins/proteinsrev3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4114-0613-44E2-9E57-22338AF006B1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biology4alevel.blogspot.ca/2014/09/22-summary-of-enzym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8E28-B8E4-4C81-9F13-98EC5A560BD8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1.lsbu.ac.uk/water/enztech/diffusi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0AB4-FE48-418B-9697-A526AE6A34A9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BC36-0C5F-48AB-B7F9-77384FD6442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3CBA-A21F-4A88-9041-72881D468C0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E27A-5CC3-4912-A7DB-789A32E0B59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www-news.uchicago.edu/releases/06/061011.ied.shtml)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FYI: This enzyme is the insulin-degrading enzyme, control of which might help to cure Alzheimer’s dis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1358-4824-4854-8436-8B8E9F56F34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C6AA-A798-46B3-9095-24130019A9B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ulieteaslickby411.blogspot.com/2011/04/innervation-of-penis-and-structure-of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C995-4147-4199-B1F8-F7C26430F44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8E66-5E5D-4DDA-BE8B-23189EC499F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classes.midlandstech.edu/carterp/Courses/bio225/chap05/ss2.htm)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B8BD-2F08-4E7F-BDC5-CFDDCC9247E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7BB9-0075-495B-AE01-42736808E18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housewares.hardwarestore.com/35-176-laundry-detergents.aspx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ch-processing into glucose through enzyme-catalyzed hydro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ese manufacturing involves enzymes called proteases (rennet) and lip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iry products without lacto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gents often contain proteases and amylases to remove protein and carbohydrate s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32FE-C89C-440B-B916-D6E8EA25CB0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kentsimmons.uwinnipeg.ca/cm1504/energy.htm)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127F-1985-4BFB-8D28-44439F5EC7E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chsweb.lr.k12.nj.us/mstanley/outlines/enzymesap/Enzymesap.htm)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actions between functional groups of enzyme &amp; substrate cause enzyme to alter shape to better fit subst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awesomebiology.wikispaces.com/Enzymes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C28F-E66A-4233-B948-D120D327854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ff"/>
                </a:solidFill>
                <a:uFillTx/>
                <a:latin typeface="Arial"/>
              </a:rPr>
              <a:t>Cofactors:  Zn, Fe 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ff"/>
                </a:solidFill>
                <a:uFillTx/>
                <a:latin typeface="Arial"/>
              </a:rPr>
              <a:t>Coenzymes: NAD, FAD, CoA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EFA8-0492-4C16-8D7A-AA16AB9D1B0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E79-A9B6-4D04-989B-02175F59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8BF-BC69-472D-AA39-8E836DEA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2A6-F7AB-4B9F-897C-347CBA27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3EE4-1991-4A6B-A505-9F9E0893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508-FB68-4077-8816-30CAA9DA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F1F-2F76-4DE8-8CB7-195A498E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5A8-260A-4DEF-A42A-E07AB81A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9BFA-EDFE-4F30-B908-D92BF7DC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5F7-EB9E-4EBA-BD82-F1F0F3BF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355F-4FCD-4217-8ED5-F10B2491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733-A71E-4A34-AE9B-035F76FA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C4C-D259-4ECC-AED0-895292FB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DE80-2B38-4EB1-BD9E-BBD357833686}" type="slidenum">
              <a:rPr b="0" lang="en-C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XTUm-75-PL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437316/student_view0/chapter8/animati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Arial"/>
              </a:rPr>
              <a:t>1.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Co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vitamins"/>
          <p:cNvPicPr/>
          <p:nvPr/>
        </p:nvPicPr>
        <p:blipFill>
          <a:blip r:embed="rId1"/>
          <a:stretch/>
        </p:blipFill>
        <p:spPr>
          <a:xfrm>
            <a:off x="1558800" y="1600200"/>
            <a:ext cx="602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actors Affecting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ate of Enzym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bstrate concent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1" descr="3e166752332b7f16e1dd0f4efca373310e4706fc.gif"/>
          <p:cNvPicPr/>
          <p:nvPr/>
        </p:nvPicPr>
        <p:blipFill>
          <a:blip r:embed="rId1"/>
          <a:srcRect l="0" t="10908" r="0" b="10908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db7ba3135d8cf5ce20b58387bf6b7784436ce279.gif"/>
          <p:cNvPicPr/>
          <p:nvPr/>
        </p:nvPicPr>
        <p:blipFill>
          <a:blip r:embed="rId1"/>
          <a:srcRect l="-13933" t="0" r="-1393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strate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22.png"/>
          <p:cNvPicPr/>
          <p:nvPr/>
        </p:nvPicPr>
        <p:blipFill>
          <a:blip r:embed="rId1"/>
          <a:srcRect l="-19326" t="0" r="-1932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zyme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fig3_11.gif"/>
          <p:cNvPicPr/>
          <p:nvPr/>
        </p:nvPicPr>
        <p:blipFill>
          <a:blip r:embed="rId1"/>
          <a:srcRect l="-1512" t="0" r="-151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zyme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mpetitive Inhib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geo-tec.net/images/competitive_inhibition.jpg"/>
          <p:cNvPicPr/>
          <p:nvPr/>
        </p:nvPicPr>
        <p:blipFill>
          <a:blip r:embed="rId1"/>
          <a:stretch/>
        </p:blipFill>
        <p:spPr>
          <a:xfrm>
            <a:off x="785880" y="1285920"/>
            <a:ext cx="76197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mpetitive Inhib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etitive inhibi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a similar structure to the substr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d to the enzym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active site and block the substrate from bi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reversible Inhibi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rugs &amp; pesticides act as irreversible inhibitors of enzy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anide (inhibits key enzyme in cellular respir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iotics (inhibit bacterial enzym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 cataly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chemical reactions without being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proteins with tertiary or quaternary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 video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www.youtube.com/watch?v=XTUm-75-PL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061011"/>
          <p:cNvPicPr/>
          <p:nvPr/>
        </p:nvPicPr>
        <p:blipFill>
          <a:blip r:embed="rId2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llosteric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nzymes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steric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steric regulators either inhibit or stimulate an enzy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osteric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7-10"/>
          <p:cNvPicPr/>
          <p:nvPr/>
        </p:nvPicPr>
        <p:blipFill>
          <a:blip r:embed="rId1"/>
          <a:stretch/>
        </p:blipFill>
        <p:spPr>
          <a:xfrm>
            <a:off x="1598760" y="1600200"/>
            <a:ext cx="594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llosteric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allosteric_enzyme_r_cu_la_7841"/>
          <p:cNvPicPr/>
          <p:nvPr/>
        </p:nvPicPr>
        <p:blipFill>
          <a:blip r:embed="rId1"/>
          <a:stretch/>
        </p:blipFill>
        <p:spPr>
          <a:xfrm>
            <a:off x="1371600" y="1981080"/>
            <a:ext cx="63594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llosteric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steric activators promote the action of the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steric inhibitors prevent the action of the enzyme (i.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competitive inhib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05-08_Feedback_1"/>
          <p:cNvPicPr/>
          <p:nvPr/>
        </p:nvPicPr>
        <p:blipFill>
          <a:blip r:embed="rId1"/>
          <a:stretch/>
        </p:blipFill>
        <p:spPr>
          <a:xfrm>
            <a:off x="2576520" y="473040"/>
            <a:ext cx="3989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eedback Inhib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sed to regulate multi-step metabolic path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duct of a pathway usually acts as an allosteric inhibitor of the first enzyme of the path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highered.mcgraw-hill.com/sites/0072437316/student_view0/chapter8/animations.html#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rcial Uses of Enzy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ose-free dairy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n &amp; wheat syrup sweete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4481438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zymes bind to specific reactants called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bstrates bind to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ctive site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on enzymes, forming the enzyme-substrate compl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Image143"/>
          <p:cNvPicPr/>
          <p:nvPr/>
        </p:nvPicPr>
        <p:blipFill>
          <a:blip r:embed="rId1"/>
          <a:stretch/>
        </p:blipFill>
        <p:spPr>
          <a:xfrm>
            <a:off x="611280" y="1600200"/>
            <a:ext cx="792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ed-Fit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ced-fit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odel, the enzyme alters its shape to better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t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str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st with the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k and key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ypothe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image136"/>
          <p:cNvPicPr/>
          <p:nvPr/>
        </p:nvPicPr>
        <p:blipFill>
          <a:blip r:embed="rId1"/>
          <a:stretch/>
        </p:blipFill>
        <p:spPr>
          <a:xfrm>
            <a:off x="4648320" y="2687760"/>
            <a:ext cx="40384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xample:  Sucr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0" descr="6x12"/>
          <p:cNvPicPr/>
          <p:nvPr/>
        </p:nvPicPr>
        <p:blipFill>
          <a:blip r:embed="rId1"/>
          <a:stretch/>
        </p:blipFill>
        <p:spPr>
          <a:xfrm>
            <a:off x="2197080" y="1600200"/>
            <a:ext cx="4749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reactions do these enzymes catalyz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t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s down lactose (sugar found in mil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P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s off a phosphate group from ATP, resulting in ADP + an inorganic phosphate +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yl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s down starch (in saliva &amp; intest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this o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P synt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sizes ATP from ADP and inorganic phosph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factors and Coenzy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nzymes requi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fac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unction as cataly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fac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non-protein molecules or inorganic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enzy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organic co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0:10:58Z</dcterms:created>
  <dc:creator>jen</dc:creator>
  <dc:description/>
  <dc:language>en-US</dc:language>
  <cp:lastModifiedBy>rubina khan</cp:lastModifiedBy>
  <dcterms:modified xsi:type="dcterms:W3CDTF">2017-02-21T16:19:48Z</dcterms:modified>
  <cp:revision>189</cp:revision>
  <dc:subject/>
  <dc:title>Enzymes</dc:title>
</cp:coreProperties>
</file>